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EBF3-902F-4357-B17C-741872739C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6B9-AF4B-4279-A480-9D20451E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B22-C71E-4501-84BD-D4936B54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47C-D9BF-4416-BB06-C8739F6E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A4F-BA0B-4783-B551-0BD0C752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301A-0C12-43E8-A4D5-BCE6929D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114F-413B-460E-BBDC-A6AF7F12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5B8B-A6F8-4D92-A706-B557BF7A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9E4A-9E61-4365-A724-0F00E9DC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DE5D-4A70-4C36-86F1-E20A3B3D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2E39-C685-4782-A2C7-A4FF5C3A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8194-3552-48BC-B981-0850389D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F5A-CC50-43F2-8729-C75C561B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8D2F-2D10-4613-A82D-9833474F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22CB-681E-44E3-AC32-A0F2442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24C8-015B-4692-88B4-3F3264BC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8173-F0C3-4D36-925C-B8DF552D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C434-9DB3-4949-BC1F-38EC5A96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39B-6A1E-46D3-AED2-CCA1F03C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E17-111D-486B-A4AB-A3AD4E21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FCF-DF37-42C1-BA7E-848EDE0A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F5E-92F1-4909-99D7-21CA24A0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750-D9AF-45F3-B23B-B1DEF8B0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D97-0AB0-4628-A81F-99E3AB4E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CD3-43BA-4E4C-9B26-138BC1B1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solidFill>
            <a:srgbClr val="80808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152280" y="228600"/>
            <a:ext cx="9524880" cy="1219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393939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90CA-0AAF-4516-9F23-73E772EF6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685800" y="2971800"/>
            <a:ext cx="7772400" cy="3124080"/>
          </a:xfrm>
          <a:prstGeom prst="rect">
            <a:avLst/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E2A1-19A5-4330-B3EA-7E0A97A438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ime Factor T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ing Prime Facto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ny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Number – An integer whose only factors are 1 and it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or – a number that can divide another number without a remai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Factors – an expression of numbers that divides another integer without a remainder where all the factors are p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Choose a Nu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use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any 2 factors – let’s use 9 and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Group 59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cxnSp>
          <p:nvCxnSpPr>
            <p:cNvPr id="102" name="AutoShape 9"/>
            <p:cNvCxnSpPr>
              <a:endCxn id="103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grpSp>
          <p:nvGrpSpPr>
            <p:cNvPr id="104" name="Group 40"/>
            <p:cNvGrpSpPr/>
            <p:nvPr/>
          </p:nvGrpSpPr>
          <p:grpSpPr>
            <a:xfrm>
              <a:off x="5562720" y="2209320"/>
              <a:ext cx="2286000" cy="749520"/>
              <a:chOff x="5562720" y="2209320"/>
              <a:chExt cx="2286000" cy="749520"/>
            </a:xfrm>
          </p:grpSpPr>
          <p:sp>
            <p:nvSpPr>
              <p:cNvPr id="105" name="Text Box 7"/>
              <p:cNvSpPr/>
              <p:nvPr/>
            </p:nvSpPr>
            <p:spPr>
              <a:xfrm>
                <a:off x="70102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Text Box 8"/>
              <p:cNvSpPr/>
              <p:nvPr/>
            </p:nvSpPr>
            <p:spPr>
              <a:xfrm>
                <a:off x="5562720" y="24382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06" name="AutoShape 10"/>
              <p:cNvCxnSpPr>
                <a:endCxn id="105" idx="0"/>
              </p:cNvCxnSpPr>
              <p:nvPr/>
            </p:nvCxnSpPr>
            <p:spPr>
              <a:xfrm>
                <a:off x="6629040" y="2209320"/>
                <a:ext cx="801000" cy="2293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07" name="Text Box 19"/>
              <p:cNvSpPr/>
              <p:nvPr/>
            </p:nvSpPr>
            <p:spPr>
              <a:xfrm>
                <a:off x="63244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8" name="Group 63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09" name="Group 62"/>
            <p:cNvGrpSpPr/>
            <p:nvPr/>
          </p:nvGrpSpPr>
          <p:grpSpPr>
            <a:xfrm>
              <a:off x="5105520" y="3871440"/>
              <a:ext cx="2895480" cy="763920"/>
              <a:chOff x="5105520" y="3871440"/>
              <a:chExt cx="2895480" cy="763920"/>
            </a:xfrm>
          </p:grpSpPr>
          <p:grpSp>
            <p:nvGrpSpPr>
              <p:cNvPr id="110" name="Group 60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11" name="Text Box 22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Text Box 23"/>
                <p:cNvSpPr/>
                <p:nvPr/>
              </p:nvSpPr>
              <p:spPr>
                <a:xfrm>
                  <a:off x="594360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Text Box 28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14" name="AutoShape 32"/>
                <p:cNvCxnSpPr>
                  <a:endCxn id="112" idx="0"/>
                </p:cNvCxnSpPr>
                <p:nvPr/>
              </p:nvCxnSpPr>
              <p:spPr>
                <a:xfrm flipH="1">
                  <a:off x="636192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15" name="AutoShape 33"/>
                <p:cNvCxnSpPr>
                  <a:endCxn id="116" idx="0"/>
                </p:cNvCxnSpPr>
                <p:nvPr/>
              </p:nvCxnSpPr>
              <p:spPr>
                <a:xfrm>
                  <a:off x="598140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17" name="Text Box 21"/>
              <p:cNvSpPr/>
              <p:nvPr/>
            </p:nvSpPr>
            <p:spPr>
              <a:xfrm>
                <a:off x="5562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Text Box 24"/>
              <p:cNvSpPr/>
              <p:nvPr/>
            </p:nvSpPr>
            <p:spPr>
              <a:xfrm>
                <a:off x="6705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" name="Text Box 25"/>
            <p:cNvSpPr/>
            <p:nvPr/>
          </p:nvSpPr>
          <p:spPr>
            <a:xfrm>
              <a:off x="754380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Group 64"/>
          <p:cNvGrpSpPr/>
          <p:nvPr/>
        </p:nvGrpSpPr>
        <p:grpSpPr>
          <a:xfrm>
            <a:off x="5524560" y="4633560"/>
            <a:ext cx="2552760" cy="763920"/>
            <a:chOff x="5524560" y="4633560"/>
            <a:chExt cx="2552760" cy="763920"/>
          </a:xfrm>
        </p:grpSpPr>
        <p:sp>
          <p:nvSpPr>
            <p:cNvPr id="120" name="Text Box 29"/>
            <p:cNvSpPr/>
            <p:nvPr/>
          </p:nvSpPr>
          <p:spPr>
            <a:xfrm>
              <a:off x="56386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400800" y="48769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72388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23" name="AutoShape 34"/>
            <p:cNvCxnSpPr>
              <a:stCxn id="111" idx="2"/>
              <a:endCxn id="120" idx="0"/>
            </p:cNvCxnSpPr>
            <p:nvPr/>
          </p:nvCxnSpPr>
          <p:spPr>
            <a:xfrm>
              <a:off x="55245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4" name="AutoShape 36"/>
            <p:cNvCxnSpPr>
              <a:stCxn id="116" idx="2"/>
              <a:endCxn id="122" idx="0"/>
            </p:cNvCxnSpPr>
            <p:nvPr/>
          </p:nvCxnSpPr>
          <p:spPr>
            <a:xfrm>
              <a:off x="71247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5" name="AutoShape 38"/>
            <p:cNvCxnSpPr/>
            <p:nvPr/>
          </p:nvCxnSpPr>
          <p:spPr>
            <a:xfrm flipH="1">
              <a:off x="7619760" y="4724280"/>
              <a:ext cx="305280" cy="153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6" name="AutoShape 39"/>
            <p:cNvCxnSpPr>
              <a:stCxn id="112" idx="2"/>
              <a:endCxn id="120" idx="0"/>
            </p:cNvCxnSpPr>
            <p:nvPr/>
          </p:nvCxnSpPr>
          <p:spPr>
            <a:xfrm flipH="1">
              <a:off x="6057720" y="4633560"/>
              <a:ext cx="30528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grpSp>
        <p:nvGrpSpPr>
          <p:cNvPr id="127" name="Group 58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sp>
          <p:nvSpPr>
            <p:cNvPr id="128" name="Text Box 13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9" name="Group 57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30" name="Text Box 14"/>
              <p:cNvSpPr/>
              <p:nvPr/>
            </p:nvSpPr>
            <p:spPr>
              <a:xfrm>
                <a:off x="6705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1" name="Group 45"/>
              <p:cNvGrpSpPr/>
              <p:nvPr/>
            </p:nvGrpSpPr>
            <p:grpSpPr>
              <a:xfrm>
                <a:off x="5105520" y="2957400"/>
                <a:ext cx="2819160" cy="915840"/>
                <a:chOff x="5105520" y="2957400"/>
                <a:chExt cx="2819160" cy="915840"/>
              </a:xfrm>
            </p:grpSpPr>
            <p:sp>
              <p:nvSpPr>
                <p:cNvPr id="132" name="Text Box 46"/>
                <p:cNvSpPr/>
                <p:nvPr/>
              </p:nvSpPr>
              <p:spPr>
                <a:xfrm>
                  <a:off x="5943600" y="335268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3" name="Group 47"/>
                <p:cNvGrpSpPr/>
                <p:nvPr/>
              </p:nvGrpSpPr>
              <p:grpSpPr>
                <a:xfrm>
                  <a:off x="5105520" y="2957400"/>
                  <a:ext cx="2819160" cy="915840"/>
                  <a:chOff x="5105520" y="2957400"/>
                  <a:chExt cx="2819160" cy="915840"/>
                </a:xfrm>
              </p:grpSpPr>
              <p:sp>
                <p:nvSpPr>
                  <p:cNvPr id="134" name="Text Box 48"/>
                  <p:cNvSpPr/>
                  <p:nvPr/>
                </p:nvSpPr>
                <p:spPr>
                  <a:xfrm>
                    <a:off x="5105520" y="335268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Tahoma"/>
                      </a:rPr>
                      <a:t>3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35" name="Group 49"/>
                  <p:cNvGrpSpPr/>
                  <p:nvPr/>
                </p:nvGrpSpPr>
                <p:grpSpPr>
                  <a:xfrm>
                    <a:off x="5524200" y="2957400"/>
                    <a:ext cx="2400480" cy="915840"/>
                    <a:chOff x="5524200" y="2957400"/>
                    <a:chExt cx="2400480" cy="915840"/>
                  </a:xfrm>
                </p:grpSpPr>
                <p:sp>
                  <p:nvSpPr>
                    <p:cNvPr id="136" name="Text Box 50"/>
                    <p:cNvSpPr/>
                    <p:nvPr/>
                  </p:nvSpPr>
                  <p:spPr>
                    <a:xfrm>
                      <a:off x="7086600" y="3352680"/>
                      <a:ext cx="838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37" name="Group 51"/>
                    <p:cNvGrpSpPr/>
                    <p:nvPr/>
                  </p:nvGrpSpPr>
                  <p:grpSpPr>
                    <a:xfrm>
                      <a:off x="5524200" y="2957400"/>
                      <a:ext cx="2363040" cy="915840"/>
                      <a:chOff x="5524200" y="2957400"/>
                      <a:chExt cx="2363040" cy="915840"/>
                    </a:xfrm>
                  </p:grpSpPr>
                  <p:cxnSp>
                    <p:nvCxnSpPr>
                      <p:cNvPr id="138" name="AutoShape 52"/>
                      <p:cNvCxnSpPr>
                        <a:endCxn id="134" idx="0"/>
                      </p:cNvCxnSpPr>
                      <p:nvPr/>
                    </p:nvCxnSpPr>
                    <p:spPr>
                      <a:xfrm flipH="1">
                        <a:off x="552420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39" name="AutoShape 53"/>
                      <p:cNvCxnSpPr>
                        <a:endCxn id="132" idx="0"/>
                      </p:cNvCxnSpPr>
                      <p:nvPr/>
                    </p:nvCxnSpPr>
                    <p:spPr>
                      <a:xfrm>
                        <a:off x="5981760" y="2957400"/>
                        <a:ext cx="38160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0" name="AutoShape 54"/>
                      <p:cNvCxnSpPr/>
                      <p:nvPr/>
                    </p:nvCxnSpPr>
                    <p:spPr>
                      <a:xfrm flipH="1">
                        <a:off x="7124040" y="2957400"/>
                        <a:ext cx="30564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1" name="AutoShape 55"/>
                      <p:cNvCxnSpPr/>
                      <p:nvPr/>
                    </p:nvCxnSpPr>
                    <p:spPr>
                      <a:xfrm>
                        <a:off x="742968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sp>
                    <p:nvSpPr>
                      <p:cNvPr id="142" name="Text Box 56"/>
                      <p:cNvSpPr/>
                      <p:nvPr/>
                    </p:nvSpPr>
                    <p:spPr>
                      <a:xfrm>
                        <a:off x="5562720" y="3352680"/>
                        <a:ext cx="83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ffffff"/>
                            </a:solidFill>
                            <a:latin typeface="Tahoma"/>
                          </a:rPr>
                          <a:t>x</a:t>
                        </a:r>
                        <a:endParaRPr b="0" lang="en-US" sz="2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43" name="Picture 66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Try That Agai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’s use 36 ag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ose any 2 factors – let’s use 3 and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, 6 is not prime - let’s factor agai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, it’s the same answe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grpSp>
          <p:nvGrpSpPr>
            <p:cNvPr id="148" name="Group 55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51055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0" name="AutoShape 13"/>
              <p:cNvCxnSpPr>
                <a:stCxn id="151" idx="2"/>
                <a:endCxn id="149" idx="0"/>
              </p:cNvCxnSpPr>
              <p:nvPr/>
            </p:nvCxnSpPr>
            <p:spPr>
              <a:xfrm flipH="1">
                <a:off x="552420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152" name="AutoShape 15"/>
              <p:cNvCxnSpPr>
                <a:stCxn id="153" idx="2"/>
                <a:endCxn id="154" idx="0"/>
              </p:cNvCxnSpPr>
              <p:nvPr/>
            </p:nvCxnSpPr>
            <p:spPr>
              <a:xfrm flipH="1">
                <a:off x="7124040" y="2957400"/>
                <a:ext cx="30564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5" name="Text Box 18"/>
              <p:cNvSpPr/>
              <p:nvPr/>
            </p:nvSpPr>
            <p:spPr>
              <a:xfrm>
                <a:off x="708660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6" name="AutoShape 16"/>
              <p:cNvCxnSpPr>
                <a:stCxn id="153" idx="2"/>
                <a:endCxn id="157" idx="0"/>
              </p:cNvCxnSpPr>
              <p:nvPr/>
            </p:nvCxnSpPr>
            <p:spPr>
              <a:xfrm>
                <a:off x="742968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8" name="Text Box 24"/>
              <p:cNvSpPr/>
              <p:nvPr/>
            </p:nvSpPr>
            <p:spPr>
              <a:xfrm>
                <a:off x="5562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7" name="Text Box 11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670572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9" name="Group 54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sp>
          <p:nvSpPr>
            <p:cNvPr id="153" name="Text Box 5"/>
            <p:cNvSpPr/>
            <p:nvPr/>
          </p:nvSpPr>
          <p:spPr>
            <a:xfrm>
              <a:off x="70102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5562720" y="2438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60" name="AutoShape 7"/>
            <p:cNvCxnSpPr>
              <a:endCxn id="151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61" name="AutoShape 8"/>
            <p:cNvCxnSpPr>
              <a:endCxn id="153" idx="0"/>
            </p:cNvCxnSpPr>
            <p:nvPr/>
          </p:nvCxnSpPr>
          <p:spPr>
            <a:xfrm>
              <a:off x="6629040" y="2209320"/>
              <a:ext cx="8010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sp>
          <p:nvSpPr>
            <p:cNvPr id="162" name="Text Box 17"/>
            <p:cNvSpPr/>
            <p:nvPr/>
          </p:nvSpPr>
          <p:spPr>
            <a:xfrm>
              <a:off x="63244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" name="Group 59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64" name="Group 58"/>
            <p:cNvGrpSpPr/>
            <p:nvPr/>
          </p:nvGrpSpPr>
          <p:grpSpPr>
            <a:xfrm>
              <a:off x="5105520" y="3871440"/>
              <a:ext cx="3276360" cy="763920"/>
              <a:chOff x="5105520" y="3871440"/>
              <a:chExt cx="3276360" cy="763920"/>
            </a:xfrm>
          </p:grpSpPr>
          <p:grpSp>
            <p:nvGrpSpPr>
              <p:cNvPr id="165" name="Group 57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66" name="Text Box 20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Text Box 35"/>
                <p:cNvSpPr/>
                <p:nvPr/>
              </p:nvSpPr>
              <p:spPr>
                <a:xfrm>
                  <a:off x="6324480" y="4114800"/>
                  <a:ext cx="83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69" name="AutoShape 45"/>
                <p:cNvCxnSpPr>
                  <a:stCxn id="149" idx="2"/>
                  <a:endCxn id="166" idx="0"/>
                </p:cNvCxnSpPr>
                <p:nvPr/>
              </p:nvCxnSpPr>
              <p:spPr>
                <a:xfrm>
                  <a:off x="55242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0" name="AutoShape 46"/>
                <p:cNvCxnSpPr>
                  <a:stCxn id="154" idx="2"/>
                  <a:endCxn id="171" idx="0"/>
                </p:cNvCxnSpPr>
                <p:nvPr/>
              </p:nvCxnSpPr>
              <p:spPr>
                <a:xfrm flipH="1">
                  <a:off x="6361920" y="3871440"/>
                  <a:ext cx="76284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2" name="AutoShape 47"/>
                <p:cNvCxnSpPr>
                  <a:stCxn id="154" idx="2"/>
                  <a:endCxn id="173" idx="0"/>
                </p:cNvCxnSpPr>
                <p:nvPr/>
              </p:nvCxnSpPr>
              <p:spPr>
                <a:xfrm>
                  <a:off x="71244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sp>
              <p:nvSpPr>
                <p:cNvPr id="173" name="Text Box 22"/>
                <p:cNvSpPr/>
                <p:nvPr/>
              </p:nvSpPr>
              <p:spPr>
                <a:xfrm>
                  <a:off x="67057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74" name="AutoShape 48"/>
                <p:cNvCxnSpPr>
                  <a:stCxn id="154" idx="2"/>
                  <a:endCxn id="175" idx="0"/>
                </p:cNvCxnSpPr>
                <p:nvPr/>
              </p:nvCxnSpPr>
              <p:spPr>
                <a:xfrm>
                  <a:off x="7124760" y="3871440"/>
                  <a:ext cx="83880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71" name="Text Box 21"/>
              <p:cNvSpPr/>
              <p:nvPr/>
            </p:nvSpPr>
            <p:spPr>
              <a:xfrm>
                <a:off x="59436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Text Box 23"/>
              <p:cNvSpPr/>
              <p:nvPr/>
            </p:nvSpPr>
            <p:spPr>
              <a:xfrm>
                <a:off x="75438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6" name="Text Box 19"/>
            <p:cNvSpPr/>
            <p:nvPr/>
          </p:nvSpPr>
          <p:spPr>
            <a:xfrm>
              <a:off x="556272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60"/>
          <p:cNvGrpSpPr/>
          <p:nvPr/>
        </p:nvGrpSpPr>
        <p:grpSpPr>
          <a:xfrm>
            <a:off x="5105520" y="4724280"/>
            <a:ext cx="3276360" cy="520560"/>
            <a:chOff x="5105520" y="4724280"/>
            <a:chExt cx="3276360" cy="520560"/>
          </a:xfrm>
        </p:grpSpPr>
        <p:sp>
          <p:nvSpPr>
            <p:cNvPr id="178" name="Text Box 37"/>
            <p:cNvSpPr/>
            <p:nvPr/>
          </p:nvSpPr>
          <p:spPr>
            <a:xfrm>
              <a:off x="51055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Text Box 42"/>
            <p:cNvSpPr/>
            <p:nvPr/>
          </p:nvSpPr>
          <p:spPr>
            <a:xfrm>
              <a:off x="63244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754380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5562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71629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38"/>
            <p:cNvSpPr/>
            <p:nvPr/>
          </p:nvSpPr>
          <p:spPr>
            <a:xfrm>
              <a:off x="58672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Text Box 39"/>
            <p:cNvSpPr/>
            <p:nvPr/>
          </p:nvSpPr>
          <p:spPr>
            <a:xfrm>
              <a:off x="6705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61"/>
          <p:cNvGrpSpPr/>
          <p:nvPr/>
        </p:nvGrpSpPr>
        <p:grpSpPr>
          <a:xfrm>
            <a:off x="5524560" y="5243040"/>
            <a:ext cx="2552760" cy="687600"/>
            <a:chOff x="5524560" y="5243040"/>
            <a:chExt cx="2552760" cy="687600"/>
          </a:xfrm>
        </p:grpSpPr>
        <p:sp>
          <p:nvSpPr>
            <p:cNvPr id="186" name="Text Box 26"/>
            <p:cNvSpPr/>
            <p:nvPr/>
          </p:nvSpPr>
          <p:spPr>
            <a:xfrm>
              <a:off x="56386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6477120" y="54100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72388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89" name="AutoShape 49"/>
            <p:cNvCxnSpPr>
              <a:stCxn id="178" idx="2"/>
              <a:endCxn id="186" idx="0"/>
            </p:cNvCxnSpPr>
            <p:nvPr/>
          </p:nvCxnSpPr>
          <p:spPr>
            <a:xfrm>
              <a:off x="55245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0" name="AutoShape 51"/>
            <p:cNvCxnSpPr>
              <a:stCxn id="183" idx="2"/>
              <a:endCxn id="186" idx="0"/>
            </p:cNvCxnSpPr>
            <p:nvPr/>
          </p:nvCxnSpPr>
          <p:spPr>
            <a:xfrm flipH="1">
              <a:off x="6057360" y="5243040"/>
              <a:ext cx="22932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1" name="AutoShape 52"/>
            <p:cNvCxnSpPr>
              <a:stCxn id="184" idx="2"/>
              <a:endCxn id="188" idx="0"/>
            </p:cNvCxnSpPr>
            <p:nvPr/>
          </p:nvCxnSpPr>
          <p:spPr>
            <a:xfrm>
              <a:off x="71247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2" name="AutoShape 53"/>
            <p:cNvCxnSpPr>
              <a:stCxn id="180" idx="2"/>
              <a:endCxn id="188" idx="0"/>
            </p:cNvCxnSpPr>
            <p:nvPr/>
          </p:nvCxnSpPr>
          <p:spPr>
            <a:xfrm flipH="1">
              <a:off x="7657920" y="5243040"/>
              <a:ext cx="30528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pic>
        <p:nvPicPr>
          <p:cNvPr id="193" name="Picture 62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Re-C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site numbers are made up of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Prime Factor Tree, the goal is to keep reducing each factor to its lowest possible prime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have all the prime factors identified, re-arrange them from least to greatest and re-write them as ex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4:55:02Z</dcterms:created>
  <dc:creator> Jason Humberd</dc:creator>
  <dc:description/>
  <dc:language>en-US</dc:language>
  <cp:lastModifiedBy>RomaK</cp:lastModifiedBy>
  <dcterms:modified xsi:type="dcterms:W3CDTF">2015-09-04T09:17:50Z</dcterms:modified>
  <cp:revision>13</cp:revision>
  <dc:subject/>
  <dc:title>Slide 1</dc:title>
</cp:coreProperties>
</file>